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5F6-66FB-4FE5-AD71-F987ECBE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14E-9D4C-4B60-9B21-C0887E5E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DD8-A6B6-4304-97B7-1DBCAA5C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AB7-7E87-475E-A40A-723224D2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DAE7-7241-4633-BA53-9C6C4D22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D835-207D-40BB-A318-21F1B270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668C-E55A-46BB-BB0B-847D37DD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6EA5-7367-45DD-98C5-634976F3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006B-DD8A-41E7-B450-7A61B26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D143-7876-4076-B87C-CE26B4B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30C-D9DC-4E0C-90FF-C8030F6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F58-ABAE-451C-8B08-02D7D7C2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AC48-75B5-44D4-846D-A30074E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303F-7417-4C9C-A909-95FC131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B73A-0A38-4A72-BBBB-36A7510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14C7-F8B7-472D-A11A-D9F3DB14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A3C-63F2-47F4-988A-7461E359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007-ECC0-4EBC-ABC2-3D094092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3F7-2130-4827-86BB-F09311A3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049-6F3C-4300-8DE8-FBDFC521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F9F-1286-4236-B257-0E771120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9B4E-2038-459A-B2FF-3EA0E867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3AA-FDAF-4347-9E9E-2BD20153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E16-A4AF-4390-9BA5-03F16F1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3A52-E352-4E3E-B404-7EBD16D51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60E6-37FF-43B9-8E90-31CEE2F79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2: Equations of 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nuary 16, 200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polation and extrapo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lation: estimate values between two know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polation: estimate values that are not between two known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y when x=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y when x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00600" y="3962520"/>
          <a:ext cx="3886200" cy="1726920"/>
        </p:xfrm>
        <a:graphic>
          <a:graphicData uri="http://schemas.openxmlformats.org/drawingml/2006/table">
            <a:tbl>
              <a:tblPr/>
              <a:tblGrid>
                <a:gridCol w="777240"/>
                <a:gridCol w="777240"/>
                <a:gridCol w="776880"/>
                <a:gridCol w="777600"/>
                <a:gridCol w="77724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 vari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k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k does not equal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is called the constant of proportionality or constant of vari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99-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1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-46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-56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-7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, 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point-slope and slope-intercept form for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intercepts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s for horizontal, vertical, parallel, and perpendicular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interpolation and extra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irect variation to solv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m(x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(x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 slope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n ordered pair on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line that passes through the following points (2, 3), (3,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ope-inter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slope and b=y-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 line that passes through (-1, 5), (-2, 7) in point-slope form and covert it to slope-intercep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-intercept and y-intercep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x-intercept, solve for x when for y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y-intercept, solve for y when x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486400" y="2362320"/>
          <a:ext cx="3314880" cy="34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362320"/>
                    <a:ext cx="331488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cept for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= x intercept and b=y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ollowing into slope-intercept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rizontal and vertical l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52880" y="2057400"/>
          <a:ext cx="3537000" cy="36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2057400"/>
                    <a:ext cx="353700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llel and perpendicula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: same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pendicular: negative reciprocal slope (slopes multiply to be 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410080" y="3200400"/>
          <a:ext cx="3090960" cy="31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0080" y="3200400"/>
                    <a:ext cx="30909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ing perpendicular and parall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2x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½x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8:23:58Z</dcterms:created>
  <dc:creator>nuhs</dc:creator>
  <dc:description/>
  <dc:language>en-US</dc:language>
  <cp:lastModifiedBy>nuhs</cp:lastModifiedBy>
  <dcterms:modified xsi:type="dcterms:W3CDTF">2008-01-16T20:01:05Z</dcterms:modified>
  <cp:revision>3</cp:revision>
  <dc:subject/>
  <dc:title>2.2: Equations of Lines</dc:title>
</cp:coreProperties>
</file>